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D62D-20D6-4EC0-AD89-2964FEB8C229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EEEC-0A21-4452-A09B-092885FC1F3A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812A-1F56-404D-9940-7F556E5F0E3B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DA9C-A7A0-4218-9717-6D5D326F952D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731E-9AD2-46C6-BDFC-E2697E3BEF9D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1682-EC75-4560-B093-123F8089044E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8920-970A-4904-A6C7-319908E5CC9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F0A2-C58E-4F69-9276-610F4ED6AD1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BA51-8CC1-4D9F-90D9-44B6BAE90E3A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81C1-A3AA-4808-B728-03691622850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191F-2EFE-4035-AA8C-3BC72700A57F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B993-93C0-46EE-962A-66D314E87A0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123B-E1F5-49EF-BCC6-ACC54E873BFA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D323-EEED-4D98-AA47-444E6B82484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7848-960B-4073-9CFB-04104835A38D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7115-7EFF-4051-B120-E92C092A700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0C17-3C53-411D-A21B-2E6487FA2C0D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46CE-E614-4354-A062-EFE8C3D9748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E5F3-A374-4A30-A145-E6FD4ADC5EB1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2B23-1983-4804-877D-1BE5C6D48AC5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050F-8E4A-42E5-A2BB-9254FFD9C46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57A4-33DB-492B-98B1-788B4B27B057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27D9-D9CC-4AEC-A094-21E52D0E530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7550-2225-49D0-8A7A-A58B8E4B2191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F077-AF59-4A30-BE20-0D303B8FA32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146A-800E-49AD-B584-F7F5A5FB1844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33F4-0D0F-4B08-9B01-C2282CD7C33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151D-003E-4B92-903A-C45C00F146C0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0006-250B-4AB5-97B6-AA64724E6C0E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5711-DB06-4EF3-9035-3E2B511088F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3FDA-18B5-4B5E-A4E4-A5282B735445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02F7-742E-4984-AA90-1ABFDBA7653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6C30-B121-4552-9C7C-6C6B568AE99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321C-AFA0-49DB-8345-4B9CF2143BD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8E99-3AC0-4564-9F7D-F90B0DCE230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52EE-F897-4458-A483-E845CF23861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0E9D-EA4D-46AB-8CA0-FD7B74147DC7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00F8-5B39-4941-B61B-FA963099A8AD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F9D7-B32B-4BB3-8E05-E005AFCFD5C1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1423-0933-4016-B985-E2B73E81BD6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E570-778A-4242-9F25-4AD0CB073935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A351-CA2A-4FF8-94D6-64FB8A0833F0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CE6C-380D-403A-86BA-C9467DF6136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CE81-20CB-421A-8E79-03FC45A937E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04AC-DEAC-4084-BB15-F5F30C0420C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C357-12F2-4788-9413-646CD305D114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AA4A-EEA9-4B7E-AACF-9657AF9D8E3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3404-3DEA-4F1B-BF2A-28AE22395ECF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6657-EDC9-48B1-884A-75B95F6005D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8913-385A-46CE-9140-47E25EB8AC0B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2837-2D6A-489E-819C-3EF38263D0BE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B4F3-6E8A-4BA0-BFB7-9625CFB1E031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433C-E309-4A14-B801-2FDA2BB454F2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FF1-2792-4396-A7AD-2102D486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CF2-E565-4F5F-9BC1-E514918F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E74-2639-49C0-933B-0714EC95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2F4-A4D9-4E86-AEBB-1F3B686A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F76AF-3264-4F85-B0AF-BE5FD893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584BB-BCCF-4DA3-8CB0-79F6FEBD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8DE59-4981-4F4A-9541-1AFA8CAD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A9894-F583-4038-AB75-939ECDE3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A4130-2F45-427E-9B26-3850B04C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865A0-12D7-4930-8083-141A7669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293F0-4115-40CF-9EC9-C73E82B7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141-C583-41B9-B7D4-B7116DE7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A9E07-3959-4332-AA70-C6F678BE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DA0DB-5108-43CF-87D1-C734A6CF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B889A-59E6-4813-966C-623F46FE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98C34-2132-4B08-A8E7-426FF349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092F9-DBBA-48F5-AE97-1F421E89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91E-7EAE-4976-83F5-87904E4A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265-BDB2-4624-BEF9-A68CA846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FC9-6D52-41BA-8A15-DB1AF440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C8C-A590-45EA-8D83-C09B14B1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9FB-BF8B-41E1-A622-B389A708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26C-93FA-49EE-ACA4-5CA70E88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5D0-7DBB-4B15-A062-FF8697ED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EA47-2F6B-4FA2-9D47-FC97238646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31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40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41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42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3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44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5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7CCB-E30F-45C2-BB68-2833BAAD2A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chemheritage.org/EducationalServices/chemach/ppt/lm04.jpg&amp;imgrefurl=http://www.chemheritage.org/EducationalServices/chemach/ppt/lm04.html&amp;h=399&amp;w=300&amp;sz=101&amp;hl=en&amp;start=8&amp;tbnid=l00I_HH9v2VSKM:&amp;tbnh=124&amp;tbnw=93&amp;prev=/images%3Fq%3Dmendeleev%26svnum%3D10%26hl%3Den%26safe%3Dactive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24000" y="40464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95280" y="476280"/>
            <a:ext cx="842472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ll of the elements on the periodic table make up everything in our worl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e periodic table consisting of most of the known elements was developed by a Russian man called Dimitri Mendelev around 1860. He managed to 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ll the elements in order of weight 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ithout sophisticated scient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quip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m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9840" y="3500280"/>
            <a:ext cx="2054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Measuring in Chemist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1279800"/>
            <a:ext cx="889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baker uses a doze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2) of some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chemist uses a mol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6.0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23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 some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nits for Mr are gmo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Moles, Mass and Mr relationship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15840" y="1627920"/>
            <a:ext cx="89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les/Mass and Mr are all related by the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6"/>
              <p:cNvSpPr txBox="1"/>
              <p:nvPr/>
            </p:nvSpPr>
            <p:spPr>
              <a:xfrm>
                <a:off x="1403280" y="2492280"/>
                <a:ext cx="180036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Rectangle 9"/>
          <p:cNvSpPr/>
          <p:nvPr/>
        </p:nvSpPr>
        <p:spPr>
          <a:xfrm>
            <a:off x="324000" y="486900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Where: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 = mass in 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r = molar mass (g mo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-1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 = number of mol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22"/>
          <p:cNvGrpSpPr/>
          <p:nvPr/>
        </p:nvGrpSpPr>
        <p:grpSpPr>
          <a:xfrm>
            <a:off x="5508360" y="2419200"/>
            <a:ext cx="3384720" cy="2670840"/>
            <a:chOff x="5508360" y="2419200"/>
            <a:chExt cx="3384720" cy="2670840"/>
          </a:xfrm>
        </p:grpSpPr>
        <p:sp>
          <p:nvSpPr>
            <p:cNvPr id="174" name="Line 4"/>
            <p:cNvSpPr/>
            <p:nvPr/>
          </p:nvSpPr>
          <p:spPr>
            <a:xfrm flipH="1">
              <a:off x="5508720" y="2419200"/>
              <a:ext cx="1295280" cy="1657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5"/>
            <p:cNvSpPr/>
            <p:nvPr/>
          </p:nvSpPr>
          <p:spPr>
            <a:xfrm>
              <a:off x="6804000" y="2419200"/>
              <a:ext cx="1297080" cy="1657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 flipH="1">
              <a:off x="5508360" y="4076640"/>
              <a:ext cx="2592360" cy="1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7"/>
            <p:cNvSpPr/>
            <p:nvPr/>
          </p:nvSpPr>
          <p:spPr>
            <a:xfrm flipH="1">
              <a:off x="6156360" y="3282840"/>
              <a:ext cx="1295280" cy="1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 flipH="1">
              <a:off x="6804000" y="3282840"/>
              <a:ext cx="1440" cy="792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6443640" y="270828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NZ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6084720" y="34275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NZ" sz="32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6948360" y="342756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M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7669080" y="2779560"/>
              <a:ext cx="122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5"/>
            <p:cNvSpPr/>
            <p:nvPr/>
          </p:nvSpPr>
          <p:spPr>
            <a:xfrm>
              <a:off x="8172360" y="2708280"/>
              <a:ext cx="144720" cy="144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6"/>
            <p:cNvSpPr/>
            <p:nvPr/>
          </p:nvSpPr>
          <p:spPr>
            <a:xfrm>
              <a:off x="8172360" y="2995560"/>
              <a:ext cx="144720" cy="144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>
              <a:off x="7956720" y="2924280"/>
              <a:ext cx="57600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 flipH="1">
              <a:off x="7597800" y="3067200"/>
              <a:ext cx="28728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588000" y="450864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 flipV="1">
              <a:off x="6804000" y="4147920"/>
              <a:ext cx="144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Moles,Mass and Mr relationshi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2725920"/>
            <a:ext cx="889308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Using this relationship we are able to work ou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Moles of a substance given the mass and M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Mass of a substance given the number of moles and M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Even the Mr of a substance given the mass and number of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3348000" y="1197000"/>
                <a:ext cx="180036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ind the number of moles of Ca in 50 grams of the met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1042920" y="3068640"/>
                <a:ext cx="16574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3780000" y="3141720"/>
                <a:ext cx="316836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g mol 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Text Box 10"/>
          <p:cNvSpPr/>
          <p:nvPr/>
        </p:nvSpPr>
        <p:spPr>
          <a:xfrm>
            <a:off x="3059280" y="4941720"/>
            <a:ext cx="58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n = 1.25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n = 1.25 moles (3s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ind the number of moles in 8 grams of oxygen gas (O</a:t>
            </a:r>
            <a:r>
              <a:rPr b="0" lang="en-NZ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1042920" y="3068640"/>
                <a:ext cx="16574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5"/>
              <p:cNvSpPr txBox="1"/>
              <p:nvPr/>
            </p:nvSpPr>
            <p:spPr>
              <a:xfrm>
                <a:off x="3992400" y="3141720"/>
                <a:ext cx="274176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g mol 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Text Box 6"/>
          <p:cNvSpPr/>
          <p:nvPr/>
        </p:nvSpPr>
        <p:spPr>
          <a:xfrm>
            <a:off x="3059280" y="49417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n = 0.250 moles (3s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ind the number of moles in 12 grams of carbon dioxide gas (CO</a:t>
            </a:r>
            <a:r>
              <a:rPr b="0" lang="en-NZ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1042920" y="3068640"/>
                <a:ext cx="16574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5"/>
              <p:cNvSpPr txBox="1"/>
              <p:nvPr/>
            </p:nvSpPr>
            <p:spPr>
              <a:xfrm>
                <a:off x="4062240" y="3176640"/>
                <a:ext cx="260064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g mol 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Text Box 6"/>
          <p:cNvSpPr/>
          <p:nvPr/>
        </p:nvSpPr>
        <p:spPr>
          <a:xfrm>
            <a:off x="3059280" y="49417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n = 0.273 moles (3s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Arial"/>
              </a:rPr>
              <a:t>Starter Questions – Using your periodic table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900000" y="1557360"/>
            <a:ext cx="755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(this means that one mole of CO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has a mass of 44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99960" y="909720"/>
            <a:ext cx="47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nd the molar mass (Mr) for  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826920" y="278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(this means that one mole of Na has a mass of 23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538200" y="223200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nd the atomic mass (Ar) for 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116000" y="64008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(2 x 23) + 12 + (3 x 16) = 106 gmol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12600" y="5950080"/>
            <a:ext cx="524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nd the molar mass (Mr) for  Na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6877080" y="350028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11.5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612720" y="3500280"/>
            <a:ext cx="63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nd the atomic mass of 0.5 mole of Na m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7020000" y="4292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2.3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684360" y="4292640"/>
            <a:ext cx="53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nd the mass of 0.1 mole of Na m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5423760" y="909720"/>
            <a:ext cx="34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12 + (2 x 16) = 44gmol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3"/>
          <p:cNvSpPr/>
          <p:nvPr/>
        </p:nvSpPr>
        <p:spPr>
          <a:xfrm>
            <a:off x="5448960" y="22050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23 gmol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0" y="486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oughie? :How many Na atoms are there in 0.1 mol of Na me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>
            <a:off x="1080720" y="5373720"/>
            <a:ext cx="58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0.1 x  6.02 x 10</a:t>
            </a:r>
            <a:r>
              <a:rPr b="0" lang="en-NZ" sz="2400" spc="-1" strike="noStrike" baseline="30000">
                <a:solidFill>
                  <a:srgbClr val="66ff33"/>
                </a:solidFill>
                <a:latin typeface="Arial"/>
              </a:rPr>
              <a:t>23 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= 6.02 x 10 </a:t>
            </a:r>
            <a:r>
              <a:rPr b="0" lang="en-NZ" sz="2400" spc="-1" strike="noStrike" baseline="30000">
                <a:solidFill>
                  <a:srgbClr val="66ff33"/>
                </a:solidFill>
                <a:latin typeface="Arial"/>
              </a:rPr>
              <a:t>22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Na a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Moles, Mass and Mr relationship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963000" y="1125000"/>
            <a:ext cx="68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les/Mass and Mr are all rela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what formul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900000" y="2708280"/>
                <a:ext cx="288144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Rectangle 9"/>
          <p:cNvSpPr/>
          <p:nvPr/>
        </p:nvSpPr>
        <p:spPr>
          <a:xfrm>
            <a:off x="682560" y="4508640"/>
            <a:ext cx="43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Where: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 = mass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r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5508360" y="2419200"/>
            <a:ext cx="3384720" cy="2670840"/>
            <a:chOff x="5508360" y="2419200"/>
            <a:chExt cx="3384720" cy="2670840"/>
          </a:xfrm>
        </p:grpSpPr>
        <p:sp>
          <p:nvSpPr>
            <p:cNvPr id="227" name="Line 4"/>
            <p:cNvSpPr/>
            <p:nvPr/>
          </p:nvSpPr>
          <p:spPr>
            <a:xfrm flipH="1">
              <a:off x="5508720" y="2419200"/>
              <a:ext cx="1295280" cy="1657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6804000" y="2419200"/>
              <a:ext cx="1297080" cy="1657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6"/>
            <p:cNvSpPr/>
            <p:nvPr/>
          </p:nvSpPr>
          <p:spPr>
            <a:xfrm flipH="1">
              <a:off x="5508360" y="4076640"/>
              <a:ext cx="2592360" cy="1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"/>
            <p:cNvSpPr/>
            <p:nvPr/>
          </p:nvSpPr>
          <p:spPr>
            <a:xfrm flipH="1">
              <a:off x="6156360" y="3282840"/>
              <a:ext cx="1295280" cy="1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8"/>
            <p:cNvSpPr/>
            <p:nvPr/>
          </p:nvSpPr>
          <p:spPr>
            <a:xfrm flipH="1">
              <a:off x="6804000" y="3282840"/>
              <a:ext cx="1440" cy="792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9"/>
            <p:cNvSpPr/>
            <p:nvPr/>
          </p:nvSpPr>
          <p:spPr>
            <a:xfrm>
              <a:off x="6443640" y="270828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NZ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10"/>
            <p:cNvSpPr/>
            <p:nvPr/>
          </p:nvSpPr>
          <p:spPr>
            <a:xfrm>
              <a:off x="6084720" y="34275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NZ" sz="32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6948360" y="342756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M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7669080" y="2779560"/>
              <a:ext cx="122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15"/>
            <p:cNvSpPr/>
            <p:nvPr/>
          </p:nvSpPr>
          <p:spPr>
            <a:xfrm>
              <a:off x="8172360" y="2708280"/>
              <a:ext cx="144720" cy="144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>
              <a:off x="8172360" y="2995560"/>
              <a:ext cx="144720" cy="144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17"/>
            <p:cNvSpPr/>
            <p:nvPr/>
          </p:nvSpPr>
          <p:spPr>
            <a:xfrm>
              <a:off x="7956720" y="2924280"/>
              <a:ext cx="57600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8"/>
            <p:cNvSpPr/>
            <p:nvPr/>
          </p:nvSpPr>
          <p:spPr>
            <a:xfrm flipH="1">
              <a:off x="7597800" y="3067200"/>
              <a:ext cx="28728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2"/>
            <p:cNvSpPr/>
            <p:nvPr/>
          </p:nvSpPr>
          <p:spPr>
            <a:xfrm>
              <a:off x="6588000" y="450864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 flipV="1">
              <a:off x="6804000" y="4147920"/>
              <a:ext cx="144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Rectangle 23"/>
          <p:cNvSpPr/>
          <p:nvPr/>
        </p:nvSpPr>
        <p:spPr>
          <a:xfrm>
            <a:off x="2856600" y="49402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1560960" y="5373720"/>
            <a:ext cx="36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molar mass (gmol</a:t>
            </a:r>
            <a:r>
              <a:rPr b="1" lang="en-US" sz="2800" spc="-1" strike="noStrike" baseline="30000">
                <a:solidFill>
                  <a:srgbClr val="66ff33"/>
                </a:solidFill>
                <a:latin typeface="Comic Sans MS"/>
                <a:ea typeface="Times New Roman"/>
              </a:rPr>
              <a:t>-1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7"/>
          <p:cNvSpPr/>
          <p:nvPr/>
        </p:nvSpPr>
        <p:spPr>
          <a:xfrm>
            <a:off x="771480" y="5805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9"/>
          <p:cNvSpPr/>
          <p:nvPr/>
        </p:nvSpPr>
        <p:spPr>
          <a:xfrm>
            <a:off x="1547640" y="5805360"/>
            <a:ext cx="301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number of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0" y="260280"/>
            <a:ext cx="91440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e will use a grid to help in calculations. These become very helpful with complicated questions - just fill what you know then use this to work out your unkn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Question- iron oxide (Fe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 is used in the production of iron. How many moles of iron oxide would there be in 200 gra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11280" y="3524400"/>
          <a:ext cx="7848360" cy="3333600"/>
        </p:xfrm>
        <a:graphic>
          <a:graphicData uri="http://schemas.openxmlformats.org/drawingml/2006/table">
            <a:tbl>
              <a:tblPr/>
              <a:tblGrid>
                <a:gridCol w="2376360"/>
                <a:gridCol w="54720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8" name="Object 28"/>
              <p:cNvSpPr txBox="1"/>
              <p:nvPr/>
            </p:nvSpPr>
            <p:spPr>
              <a:xfrm>
                <a:off x="1258920" y="4964040"/>
                <a:ext cx="1224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Rectangle 35"/>
          <p:cNvSpPr/>
          <p:nvPr/>
        </p:nvSpPr>
        <p:spPr>
          <a:xfrm>
            <a:off x="1442520" y="618804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7"/>
          <p:cNvSpPr/>
          <p:nvPr/>
        </p:nvSpPr>
        <p:spPr>
          <a:xfrm>
            <a:off x="5124240" y="3668760"/>
            <a:ext cx="107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Fe</a:t>
            </a:r>
            <a:r>
              <a:rPr b="0" lang="en-NZ" sz="2800" spc="-1" strike="noStrike" baseline="-25000">
                <a:solidFill>
                  <a:srgbClr val="00ffcc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O</a:t>
            </a:r>
            <a:r>
              <a:rPr b="0" lang="en-NZ" sz="2800" spc="-1" strike="noStrike" baseline="-25000">
                <a:solidFill>
                  <a:srgbClr val="00ffcc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1"/>
          <p:cNvSpPr/>
          <p:nvPr/>
        </p:nvSpPr>
        <p:spPr>
          <a:xfrm>
            <a:off x="4427640" y="51800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66ff33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3700080" y="6145200"/>
            <a:ext cx="194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200 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4"/>
              <p:cNvSpPr txBox="1"/>
              <p:nvPr/>
            </p:nvSpPr>
            <p:spPr>
              <a:xfrm>
                <a:off x="3780000" y="5037120"/>
                <a:ext cx="1592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0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Text Box 46"/>
          <p:cNvSpPr/>
          <p:nvPr/>
        </p:nvSpPr>
        <p:spPr>
          <a:xfrm>
            <a:off x="5362560" y="52531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= 1.25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8"/>
          <p:cNvSpPr/>
          <p:nvPr/>
        </p:nvSpPr>
        <p:spPr>
          <a:xfrm>
            <a:off x="3067200" y="4387680"/>
            <a:ext cx="51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(2 x 56) + (3 x 16) = 160 gmol </a:t>
            </a:r>
            <a:r>
              <a:rPr b="0" lang="en-NZ" sz="28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684360" y="270828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Arial"/>
              </a:rPr>
              <a:t>Copy out the g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2602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n industrial operations large quantities ar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Question - How many moles of iron oxide would there be in 1 tonne (1000kgs)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12720" y="2924280"/>
          <a:ext cx="7848720" cy="3333600"/>
        </p:xfrm>
        <a:graphic>
          <a:graphicData uri="http://schemas.openxmlformats.org/drawingml/2006/table">
            <a:tbl>
              <a:tblPr/>
              <a:tblGrid>
                <a:gridCol w="2376720"/>
                <a:gridCol w="54720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9" name="Object 20"/>
              <p:cNvSpPr txBox="1"/>
              <p:nvPr/>
            </p:nvSpPr>
            <p:spPr>
              <a:xfrm>
                <a:off x="1260360" y="4363920"/>
                <a:ext cx="1224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Rectangle 21"/>
          <p:cNvSpPr/>
          <p:nvPr/>
        </p:nvSpPr>
        <p:spPr>
          <a:xfrm>
            <a:off x="1443960" y="558792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5125680" y="3068640"/>
            <a:ext cx="107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Fe</a:t>
            </a:r>
            <a:r>
              <a:rPr b="0" lang="en-NZ" sz="2800" spc="-1" strike="noStrike" baseline="-25000">
                <a:solidFill>
                  <a:srgbClr val="00ffcc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O</a:t>
            </a:r>
            <a:r>
              <a:rPr b="0" lang="en-NZ" sz="2800" spc="-1" strike="noStrike" baseline="-25000">
                <a:solidFill>
                  <a:srgbClr val="00ffcc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4429080" y="45799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66ff33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3123720" y="5589720"/>
            <a:ext cx="52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1000kg x 1000 = 1 x 10</a:t>
            </a:r>
            <a:r>
              <a:rPr b="0" lang="en-NZ" sz="2800" spc="-1" strike="noStrike" baseline="30000">
                <a:solidFill>
                  <a:srgbClr val="00ffcc"/>
                </a:solidFill>
                <a:latin typeface="Comic Sans MS"/>
              </a:rPr>
              <a:t>6</a:t>
            </a: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 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5"/>
              <p:cNvSpPr txBox="1"/>
              <p:nvPr/>
            </p:nvSpPr>
            <p:spPr>
              <a:xfrm>
                <a:off x="3419640" y="4437000"/>
                <a:ext cx="198900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x 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0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Text Box 26"/>
          <p:cNvSpPr/>
          <p:nvPr/>
        </p:nvSpPr>
        <p:spPr>
          <a:xfrm>
            <a:off x="5364000" y="465300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= 6,250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27"/>
          <p:cNvSpPr/>
          <p:nvPr/>
        </p:nvSpPr>
        <p:spPr>
          <a:xfrm>
            <a:off x="3069000" y="3787920"/>
            <a:ext cx="51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(2 x 56) + (3 x 16) = 160 gmol </a:t>
            </a:r>
            <a:r>
              <a:rPr b="0" lang="en-NZ" sz="28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468360" y="206064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Arial"/>
              </a:rPr>
              <a:t>Copy out the g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Mendeleev'sPeriodic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042920" y="40464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Comic Sans MS"/>
              </a:rPr>
              <a:t>Mendeleevs First Periodic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0" y="260280"/>
            <a:ext cx="914400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Arial"/>
              </a:rPr>
              <a:t>How to work out the % of an element in a comp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at % of Fe is there in Fe</a:t>
            </a:r>
            <a:r>
              <a:rPr b="0" lang="en-NZ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5"/>
              <p:cNvSpPr txBox="1"/>
              <p:nvPr/>
            </p:nvSpPr>
            <p:spPr>
              <a:xfrm>
                <a:off x="1714680" y="2357280"/>
                <a:ext cx="3857400" cy="263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Fe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r 2Fe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 F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F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TextBox 14"/>
          <p:cNvSpPr/>
          <p:nvPr/>
        </p:nvSpPr>
        <p:spPr>
          <a:xfrm>
            <a:off x="285840" y="5214960"/>
            <a:ext cx="8286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How much iron would you get from 100kgs of Fe</a:t>
            </a:r>
            <a:r>
              <a:rPr b="0" lang="en-NZ" sz="2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0" lang="en-NZ" sz="28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0.7  x  100  = 70kg of i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Reading Equations using Mo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684360" y="1413000"/>
            <a:ext cx="77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a       +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                          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+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3708360" y="162864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0" y="2133720"/>
            <a:ext cx="9144000" cy="45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above reaction rea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 amount of Ca reacts with 1 amount of H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4  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to give 1 amount of CaSO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and 1 amount of H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g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(we don’t usually put in the ones – but if we did it would look like th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The amount we use is the m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Now the reaction rea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 mole of Ca reacts with 1 mole of H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to give 1 mole of CaSO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and 1 mole of H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g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47016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205308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536616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716616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0" dur="2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Reading Equations using Mo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0" y="1125360"/>
            <a:ext cx="845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a       +    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4                                          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+    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4"/>
          <p:cNvSpPr/>
          <p:nvPr/>
        </p:nvSpPr>
        <p:spPr>
          <a:xfrm>
            <a:off x="3708360" y="134136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773360"/>
            <a:ext cx="9144000" cy="4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If we have 1 mole of Ca how many moles of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 are needed to fully react the Ca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If we had 0.5 mole of Ca how many moles of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would be requir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If 0.5 mole of Ca reacted with 0.5 mole of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how many moles of CaSO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and how many moles of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gas are forme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6159960" y="285264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cc"/>
                </a:solidFill>
                <a:latin typeface="Arial"/>
              </a:rPr>
              <a:t>Ans: 1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782880" y="393372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cc"/>
                </a:solidFill>
                <a:latin typeface="Arial"/>
              </a:rPr>
              <a:t>Ans: 0.5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913680" y="5950080"/>
            <a:ext cx="430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cc"/>
                </a:solidFill>
                <a:latin typeface="Arial"/>
              </a:rPr>
              <a:t>Ans : 0.5 mole of H</a:t>
            </a:r>
            <a:r>
              <a:rPr b="1" lang="en-NZ" sz="2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00ffcc"/>
                </a:solidFill>
                <a:latin typeface="Arial"/>
              </a:rPr>
              <a:t> ga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5305680" y="5950080"/>
            <a:ext cx="3218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cc"/>
                </a:solidFill>
                <a:latin typeface="Arial"/>
              </a:rPr>
              <a:t>0.5 mole of CaSO</a:t>
            </a:r>
            <a:r>
              <a:rPr b="1" lang="en-NZ" sz="28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Reading Equations using Mo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684360" y="1125360"/>
            <a:ext cx="77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a       +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                          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+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4"/>
          <p:cNvSpPr/>
          <p:nvPr/>
        </p:nvSpPr>
        <p:spPr>
          <a:xfrm>
            <a:off x="3708360" y="134136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0" y="1557360"/>
            <a:ext cx="914400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If 0.5 mole of Ca reacted with 0.5 mole of H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how many moles of CaSO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and  how many moles of H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gas are formed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761400" y="3284640"/>
            <a:ext cx="372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cc"/>
                </a:solidFill>
                <a:latin typeface="Arial"/>
              </a:rPr>
              <a:t>Ans : 0.5 mole of H</a:t>
            </a:r>
            <a:r>
              <a:rPr b="1" lang="en-NZ" sz="2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00ffcc"/>
                </a:solidFill>
                <a:latin typeface="Arial"/>
              </a:rPr>
              <a:t> ga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4578840" y="3284640"/>
            <a:ext cx="278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cc"/>
                </a:solidFill>
                <a:latin typeface="Arial"/>
              </a:rPr>
              <a:t>0.5 mole of CaSO</a:t>
            </a:r>
            <a:r>
              <a:rPr b="1" lang="en-NZ" sz="24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179280" y="3844800"/>
            <a:ext cx="820908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Given the Ar (atomic mass) valu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 = 1gmo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Ca = 40gmo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S = 32gmo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O =16gmo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nd the molar masses (Mr) of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, Ca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n use these and the mole (n) formula to work out the mass of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gas and the mass of Ca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form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(Hint you will need to rearrange the formul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Reading Equations using Mo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684360" y="1125360"/>
            <a:ext cx="77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+    CO                       2Fe    +     2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3851280" y="141300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0" y="155736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If  200kg of  Fe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is reacted in the above equation what mass of Fe is produced?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5"/>
              <p:cNvSpPr txBox="1"/>
              <p:nvPr/>
            </p:nvSpPr>
            <p:spPr>
              <a:xfrm>
                <a:off x="1571760" y="3286080"/>
                <a:ext cx="5173560" cy="26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Fe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r 2Fe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 F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 F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500040" y="1571760"/>
          <a:ext cx="8229600" cy="4259160"/>
        </p:xfrm>
        <a:graphic>
          <a:graphicData uri="http://schemas.openxmlformats.org/drawingml/2006/table">
            <a:tbl>
              <a:tblPr/>
              <a:tblGrid>
                <a:gridCol w="1800360"/>
                <a:gridCol w="4103640"/>
                <a:gridCol w="2325600"/>
              </a:tblGrid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Reaction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Text Box 3"/>
          <p:cNvSpPr/>
          <p:nvPr/>
        </p:nvSpPr>
        <p:spPr>
          <a:xfrm>
            <a:off x="428760" y="1071720"/>
            <a:ext cx="77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g       +     2 HCl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gCl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+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ork out how many moles of HCl is used to completely react 60grams of Mg metal in the following reaction?   Draw gr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3452760" y="128736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37"/>
          <p:cNvSpPr/>
          <p:nvPr/>
        </p:nvSpPr>
        <p:spPr>
          <a:xfrm>
            <a:off x="6929280" y="49291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77"/>
              <p:cNvSpPr txBox="1"/>
              <p:nvPr/>
            </p:nvSpPr>
            <p:spPr>
              <a:xfrm>
                <a:off x="785880" y="3857760"/>
                <a:ext cx="1100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Rectangle 78"/>
          <p:cNvSpPr/>
          <p:nvPr/>
        </p:nvSpPr>
        <p:spPr>
          <a:xfrm>
            <a:off x="903960" y="328608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79"/>
          <p:cNvSpPr/>
          <p:nvPr/>
        </p:nvSpPr>
        <p:spPr>
          <a:xfrm>
            <a:off x="3627000" y="1917720"/>
            <a:ext cx="6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80"/>
          <p:cNvSpPr/>
          <p:nvPr/>
        </p:nvSpPr>
        <p:spPr>
          <a:xfrm>
            <a:off x="3143160" y="4071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81"/>
          <p:cNvSpPr/>
          <p:nvPr/>
        </p:nvSpPr>
        <p:spPr>
          <a:xfrm>
            <a:off x="3063600" y="32860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60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82"/>
              <p:cNvSpPr txBox="1"/>
              <p:nvPr/>
            </p:nvSpPr>
            <p:spPr>
              <a:xfrm>
                <a:off x="2571840" y="3929040"/>
                <a:ext cx="16365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Text Box 83"/>
          <p:cNvSpPr/>
          <p:nvPr/>
        </p:nvSpPr>
        <p:spPr>
          <a:xfrm>
            <a:off x="4143240" y="40719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= 2.5 m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84"/>
          <p:cNvSpPr/>
          <p:nvPr/>
        </p:nvSpPr>
        <p:spPr>
          <a:xfrm>
            <a:off x="3281400" y="25718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24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87"/>
          <p:cNvSpPr/>
          <p:nvPr/>
        </p:nvSpPr>
        <p:spPr>
          <a:xfrm>
            <a:off x="1082520" y="257184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88"/>
          <p:cNvSpPr/>
          <p:nvPr/>
        </p:nvSpPr>
        <p:spPr>
          <a:xfrm>
            <a:off x="7221600" y="192888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89"/>
          <p:cNvSpPr/>
          <p:nvPr/>
        </p:nvSpPr>
        <p:spPr>
          <a:xfrm>
            <a:off x="6714000" y="257184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36.5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36"/>
          <p:cNvSpPr/>
          <p:nvPr/>
        </p:nvSpPr>
        <p:spPr>
          <a:xfrm>
            <a:off x="3786120" y="49291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43"/>
          <p:cNvSpPr/>
          <p:nvPr/>
        </p:nvSpPr>
        <p:spPr>
          <a:xfrm>
            <a:off x="928800" y="53578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refore 2 x moles of Mg    =  moles of 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44"/>
          <p:cNvSpPr/>
          <p:nvPr/>
        </p:nvSpPr>
        <p:spPr>
          <a:xfrm>
            <a:off x="928800" y="6072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refore 2 x 2.5 moles       =   5 moles of 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at was the mass of HCl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3214800" y="1071720"/>
                <a:ext cx="1100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TextBox 22"/>
          <p:cNvSpPr/>
          <p:nvPr/>
        </p:nvSpPr>
        <p:spPr>
          <a:xfrm>
            <a:off x="642960" y="2357280"/>
            <a:ext cx="7286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 = 5 x M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=  5 mol x   36.5 gmol</a:t>
            </a:r>
            <a:r>
              <a:rPr b="0" lang="en-NZ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=  182.5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=  182 g (3s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Sherbet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214200" y="1143000"/>
            <a:ext cx="892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aH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7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a tartarate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 +  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Straight Arrow Connector 5"/>
          <p:cNvCxnSpPr/>
          <p:nvPr/>
        </p:nvCxnSpPr>
        <p:spPr>
          <a:xfrm>
            <a:off x="4500720" y="1356840"/>
            <a:ext cx="357840" cy="2520"/>
          </a:xfrm>
          <a:prstGeom prst="straightConnector1">
            <a:avLst/>
          </a:prstGeom>
          <a:ln w="38160">
            <a:solidFill>
              <a:srgbClr val="2d95fe"/>
            </a:solidFill>
            <a:miter/>
            <a:tailEnd len="med" type="arrow" w="med"/>
          </a:ln>
        </p:spPr>
      </p:cxnSp>
      <p:sp>
        <p:nvSpPr>
          <p:cNvPr id="324" name="TextBox 6"/>
          <p:cNvSpPr/>
          <p:nvPr/>
        </p:nvSpPr>
        <p:spPr>
          <a:xfrm>
            <a:off x="0" y="7142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Sherbet balanced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8"/>
          <p:cNvSpPr/>
          <p:nvPr/>
        </p:nvSpPr>
        <p:spPr>
          <a:xfrm>
            <a:off x="1785960" y="157176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Tarta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3357720" y="1571760"/>
            <a:ext cx="15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Ci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10"/>
          <p:cNvSpPr/>
          <p:nvPr/>
        </p:nvSpPr>
        <p:spPr>
          <a:xfrm>
            <a:off x="4929120" y="15717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Sherb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1"/>
          <p:cNvSpPr/>
          <p:nvPr/>
        </p:nvSpPr>
        <p:spPr>
          <a:xfrm>
            <a:off x="0" y="24289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Given 1 gram of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aH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work out how much of each ingredi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2928960"/>
          <a:ext cx="8929800" cy="3929040"/>
        </p:xfrm>
        <a:graphic>
          <a:graphicData uri="http://schemas.openxmlformats.org/drawingml/2006/table">
            <a:tbl>
              <a:tblPr/>
              <a:tblGrid>
                <a:gridCol w="2071800"/>
                <a:gridCol w="3071880"/>
                <a:gridCol w="1857240"/>
                <a:gridCol w="19288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13"/>
          <p:cNvSpPr/>
          <p:nvPr/>
        </p:nvSpPr>
        <p:spPr>
          <a:xfrm>
            <a:off x="2588040" y="3143160"/>
            <a:ext cx="134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NaHCO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14"/>
          <p:cNvSpPr/>
          <p:nvPr/>
        </p:nvSpPr>
        <p:spPr>
          <a:xfrm>
            <a:off x="5072040" y="31431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Tarta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7008480" y="31431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Cit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87"/>
          <p:cNvSpPr/>
          <p:nvPr/>
        </p:nvSpPr>
        <p:spPr>
          <a:xfrm>
            <a:off x="725040" y="385776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87"/>
          <p:cNvSpPr/>
          <p:nvPr/>
        </p:nvSpPr>
        <p:spPr>
          <a:xfrm>
            <a:off x="157680" y="55008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olar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3214800" y="55008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5643720" y="55008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Box 22"/>
          <p:cNvSpPr/>
          <p:nvPr/>
        </p:nvSpPr>
        <p:spPr>
          <a:xfrm>
            <a:off x="7715160" y="550080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2000160" y="4500720"/>
                <a:ext cx="12956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4gmo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357120" y="4500720"/>
                <a:ext cx="1073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TextBox 25"/>
          <p:cNvSpPr/>
          <p:nvPr/>
        </p:nvSpPr>
        <p:spPr>
          <a:xfrm>
            <a:off x="3214800" y="46432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= 0.0119 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84"/>
          <p:cNvSpPr/>
          <p:nvPr/>
        </p:nvSpPr>
        <p:spPr>
          <a:xfrm>
            <a:off x="2567160" y="38577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84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4"/>
          <p:cNvSpPr/>
          <p:nvPr/>
        </p:nvSpPr>
        <p:spPr>
          <a:xfrm>
            <a:off x="5121000" y="385776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150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84"/>
          <p:cNvSpPr/>
          <p:nvPr/>
        </p:nvSpPr>
        <p:spPr>
          <a:xfrm>
            <a:off x="7095960" y="385776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191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87"/>
          <p:cNvSpPr/>
          <p:nvPr/>
        </p:nvSpPr>
        <p:spPr>
          <a:xfrm>
            <a:off x="-4320" y="614376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ass = n x M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30"/>
          <p:cNvSpPr/>
          <p:nvPr/>
        </p:nvSpPr>
        <p:spPr>
          <a:xfrm>
            <a:off x="5072040" y="614376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0.0119 x 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= 1.785g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31"/>
          <p:cNvSpPr/>
          <p:nvPr/>
        </p:nvSpPr>
        <p:spPr>
          <a:xfrm>
            <a:off x="7000920" y="614376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0.0119 x 1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= 2.273g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34"/>
          <p:cNvSpPr/>
          <p:nvPr/>
        </p:nvSpPr>
        <p:spPr>
          <a:xfrm>
            <a:off x="5072040" y="46432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0.0119 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35"/>
          <p:cNvSpPr/>
          <p:nvPr/>
        </p:nvSpPr>
        <p:spPr>
          <a:xfrm>
            <a:off x="6929280" y="46432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0.0119 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36"/>
          <p:cNvSpPr/>
          <p:nvPr/>
        </p:nvSpPr>
        <p:spPr>
          <a:xfrm>
            <a:off x="3143160" y="62150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500040" y="1571760"/>
          <a:ext cx="8229600" cy="4259160"/>
        </p:xfrm>
        <a:graphic>
          <a:graphicData uri="http://schemas.openxmlformats.org/drawingml/2006/table">
            <a:tbl>
              <a:tblPr/>
              <a:tblGrid>
                <a:gridCol w="1800360"/>
                <a:gridCol w="4103640"/>
                <a:gridCol w="2325600"/>
              </a:tblGrid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Reaction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Text Box 3"/>
          <p:cNvSpPr/>
          <p:nvPr/>
        </p:nvSpPr>
        <p:spPr>
          <a:xfrm>
            <a:off x="395280" y="1052640"/>
            <a:ext cx="777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+       2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                          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+     2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ork out how many moles of carbon dioxide is created when  100grams of oxygen is reacted in the following reaction?  Draw gr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4"/>
          <p:cNvSpPr/>
          <p:nvPr/>
        </p:nvSpPr>
        <p:spPr>
          <a:xfrm>
            <a:off x="3452760" y="128736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37"/>
          <p:cNvSpPr/>
          <p:nvPr/>
        </p:nvSpPr>
        <p:spPr>
          <a:xfrm>
            <a:off x="6929280" y="49291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77"/>
              <p:cNvSpPr txBox="1"/>
              <p:nvPr/>
            </p:nvSpPr>
            <p:spPr>
              <a:xfrm>
                <a:off x="785880" y="3857760"/>
                <a:ext cx="1100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6" name="Rectangle 78"/>
          <p:cNvSpPr/>
          <p:nvPr/>
        </p:nvSpPr>
        <p:spPr>
          <a:xfrm>
            <a:off x="903960" y="328608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80"/>
          <p:cNvSpPr/>
          <p:nvPr/>
        </p:nvSpPr>
        <p:spPr>
          <a:xfrm>
            <a:off x="3143160" y="4071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81"/>
          <p:cNvSpPr/>
          <p:nvPr/>
        </p:nvSpPr>
        <p:spPr>
          <a:xfrm>
            <a:off x="3038760" y="32860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100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82"/>
              <p:cNvSpPr txBox="1"/>
              <p:nvPr/>
            </p:nvSpPr>
            <p:spPr>
              <a:xfrm>
                <a:off x="2535120" y="3905280"/>
                <a:ext cx="171000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Text Box 83"/>
          <p:cNvSpPr/>
          <p:nvPr/>
        </p:nvSpPr>
        <p:spPr>
          <a:xfrm>
            <a:off x="4143240" y="40719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= 3.125 m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84"/>
          <p:cNvSpPr/>
          <p:nvPr/>
        </p:nvSpPr>
        <p:spPr>
          <a:xfrm>
            <a:off x="3274200" y="25718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32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87"/>
          <p:cNvSpPr/>
          <p:nvPr/>
        </p:nvSpPr>
        <p:spPr>
          <a:xfrm>
            <a:off x="1082520" y="257184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89"/>
          <p:cNvSpPr/>
          <p:nvPr/>
        </p:nvSpPr>
        <p:spPr>
          <a:xfrm>
            <a:off x="6703200" y="25718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44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36"/>
          <p:cNvSpPr/>
          <p:nvPr/>
        </p:nvSpPr>
        <p:spPr>
          <a:xfrm>
            <a:off x="3786120" y="49291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43"/>
          <p:cNvSpPr/>
          <p:nvPr/>
        </p:nvSpPr>
        <p:spPr>
          <a:xfrm>
            <a:off x="928800" y="5357880"/>
            <a:ext cx="785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refore ½  x moles of 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=  moles of 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44"/>
          <p:cNvSpPr/>
          <p:nvPr/>
        </p:nvSpPr>
        <p:spPr>
          <a:xfrm>
            <a:off x="393840" y="5877000"/>
            <a:ext cx="875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refore ½  x 3.125 moles     =   1.5625 moles of 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49"/>
          <p:cNvSpPr/>
          <p:nvPr/>
        </p:nvSpPr>
        <p:spPr>
          <a:xfrm>
            <a:off x="7104240" y="1851120"/>
            <a:ext cx="71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CO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51"/>
          <p:cNvSpPr/>
          <p:nvPr/>
        </p:nvSpPr>
        <p:spPr>
          <a:xfrm>
            <a:off x="3648960" y="185112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O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53"/>
          <p:cNvSpPr/>
          <p:nvPr/>
        </p:nvSpPr>
        <p:spPr>
          <a:xfrm>
            <a:off x="179280" y="6381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ould you give this answ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54"/>
          <p:cNvSpPr/>
          <p:nvPr/>
        </p:nvSpPr>
        <p:spPr>
          <a:xfrm>
            <a:off x="4427640" y="6400800"/>
            <a:ext cx="42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1.56 moles of CO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 (3 sig fi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1"/>
          <p:cNvSpPr/>
          <p:nvPr/>
        </p:nvSpPr>
        <p:spPr>
          <a:xfrm>
            <a:off x="571680" y="285840"/>
            <a:ext cx="7358040" cy="31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Empirical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is is the simplest ratio of atoms in a comp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or example the empirical formula for ethane  C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6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s 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642960" y="3000240"/>
            <a:ext cx="580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the empirical formula for  butane C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10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377400" y="300024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714240" y="3643200"/>
            <a:ext cx="580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the empirical formula for methane C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4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6442200" y="36432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57120" y="4286160"/>
            <a:ext cx="757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the empirical formula for hydrogen peroxide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2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7576200" y="42861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285840" y="214200"/>
            <a:ext cx="80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ve atomic Mass (Ar) numb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8360" y="1197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ll atoms were measured against Carbon. The carbon atom was assigned an atomic mass of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900000" y="2421000"/>
            <a:ext cx="1511280" cy="18716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332000" y="277956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476360" y="24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332000" y="3500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 flipH="1">
            <a:off x="1907640" y="3789360"/>
            <a:ext cx="1295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132000" y="3645000"/>
            <a:ext cx="601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tell us that each carbon atom has a mass of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 also tells us the number of protons and neut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285840" y="55008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omic Sans MS"/>
              </a:rPr>
              <a:t>We say the relative atomic mass (Ar) of Carbon is 1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1"/>
          <p:cNvSpPr/>
          <p:nvPr/>
        </p:nvSpPr>
        <p:spPr>
          <a:xfrm>
            <a:off x="571680" y="285840"/>
            <a:ext cx="8215200" cy="38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Molecular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molecular formula of a compound is the formula giving the actual number of atoms in a comp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e will be asked to find the molecular formula given % mass of a comp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428760" y="321480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or example find the molecular formula for a compound which was found to contain 80% carbon and 20% hydr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"/>
          <p:cNvSpPr/>
          <p:nvPr/>
        </p:nvSpPr>
        <p:spPr>
          <a:xfrm>
            <a:off x="142920" y="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xample: finding the empirical formula for a compound that was found to contain 80% carbon and 20% hydr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4572000" y="9288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7143840" y="9288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4503240" y="16430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80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7074720" y="1571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20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78480" y="24289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6ff33"/>
                </a:solidFill>
                <a:uFillTx/>
                <a:latin typeface="Arial"/>
              </a:rPr>
              <a:t>Step two :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2857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ivide each element by its Ar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142920" y="1428840"/>
            <a:ext cx="40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imply convert each % to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222120" y="1000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6ff33"/>
                </a:solidFill>
                <a:uFillTx/>
                <a:latin typeface="Arial"/>
              </a:rPr>
              <a:t>Step one :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3"/>
              <p:cNvSpPr txBox="1"/>
              <p:nvPr/>
            </p:nvSpPr>
            <p:spPr>
              <a:xfrm>
                <a:off x="4168800" y="2781360"/>
                <a:ext cx="22064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6919920" y="2786040"/>
                <a:ext cx="13762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Rectangle 12"/>
          <p:cNvSpPr/>
          <p:nvPr/>
        </p:nvSpPr>
        <p:spPr>
          <a:xfrm>
            <a:off x="151200" y="37148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6ff33"/>
                </a:solidFill>
                <a:uFillTx/>
                <a:latin typeface="Arial"/>
              </a:rPr>
              <a:t>Step three :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0" y="414324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at is the smaller numb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ow divide each of thes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is smaller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5357880" y="2857680"/>
            <a:ext cx="928800" cy="8571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4"/>
              <p:cNvSpPr txBox="1"/>
              <p:nvPr/>
            </p:nvSpPr>
            <p:spPr>
              <a:xfrm>
                <a:off x="4038480" y="4286160"/>
                <a:ext cx="2208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6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6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5"/>
              <p:cNvSpPr txBox="1"/>
              <p:nvPr/>
            </p:nvSpPr>
            <p:spPr>
              <a:xfrm>
                <a:off x="6224760" y="4357800"/>
                <a:ext cx="27795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66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TextBox 17"/>
          <p:cNvSpPr/>
          <p:nvPr/>
        </p:nvSpPr>
        <p:spPr>
          <a:xfrm>
            <a:off x="0" y="565776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ow  this is the empirical formula for the compound just write out the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18"/>
          <p:cNvSpPr/>
          <p:nvPr/>
        </p:nvSpPr>
        <p:spPr>
          <a:xfrm>
            <a:off x="292320" y="535788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6ff33"/>
                </a:solidFill>
                <a:uFillTx/>
                <a:latin typeface="Arial"/>
              </a:rPr>
              <a:t>Step four :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9"/>
          <p:cNvSpPr/>
          <p:nvPr/>
        </p:nvSpPr>
        <p:spPr>
          <a:xfrm>
            <a:off x="4857840" y="585792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 x C                   3 x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6081840" y="639612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0" name="Straight Arrow Connector 22"/>
          <p:cNvCxnSpPr>
            <a:endCxn id="399" idx="1"/>
          </p:cNvCxnSpPr>
          <p:nvPr/>
        </p:nvCxnSpPr>
        <p:spPr>
          <a:xfrm>
            <a:off x="5500440" y="6283440"/>
            <a:ext cx="572040" cy="342000"/>
          </a:xfrm>
          <a:prstGeom prst="straightConnector1">
            <a:avLst/>
          </a:prstGeom>
          <a:ln w="25560">
            <a:solidFill>
              <a:srgbClr val="2d95fe"/>
            </a:solidFill>
            <a:miter/>
            <a:tailEnd len="med" type="triangle" w="med"/>
          </a:ln>
        </p:spPr>
      </p:cxnSp>
      <p:cxnSp>
        <p:nvCxnSpPr>
          <p:cNvPr id="401" name="Straight Arrow Connector 23"/>
          <p:cNvCxnSpPr/>
          <p:nvPr/>
        </p:nvCxnSpPr>
        <p:spPr>
          <a:xfrm flipH="1">
            <a:off x="6786000" y="6213960"/>
            <a:ext cx="500760" cy="423000"/>
          </a:xfrm>
          <a:prstGeom prst="straightConnector1">
            <a:avLst/>
          </a:prstGeom>
          <a:ln w="25560">
            <a:solidFill>
              <a:srgbClr val="2d95f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85840" y="14292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xample : Now find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molecular formula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or the compound that was found to contain 80% carbon and 20% hydrog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Given that the compound was found to have a molar mass of 30 gmol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142920" y="1928880"/>
            <a:ext cx="9001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Step five: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use the empirical formula you just found ie 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nd follow the method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Step six :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ivide your given molar mass by the molar mass of 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1143000" y="3500280"/>
                <a:ext cx="39481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iven molar 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empirical formula molar mass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5497560" y="3429000"/>
                <a:ext cx="2039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5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TextBox 6"/>
          <p:cNvSpPr/>
          <p:nvPr/>
        </p:nvSpPr>
        <p:spPr>
          <a:xfrm>
            <a:off x="214200" y="4643280"/>
            <a:ext cx="7929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Step seven: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ow multiply your empirical formula by 2 to get the molecular formula - 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2 x C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3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= 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C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35280" y="435600"/>
            <a:ext cx="907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 compound was found to have a % composi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f 2.0% Hydrogen, 32.7% Sulfur, 65.3%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ind the empirical 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2"/>
          <p:cNvSpPr/>
          <p:nvPr/>
        </p:nvSpPr>
        <p:spPr>
          <a:xfrm>
            <a:off x="7858080" y="857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3"/>
          <p:cNvSpPr/>
          <p:nvPr/>
        </p:nvSpPr>
        <p:spPr>
          <a:xfrm>
            <a:off x="3071880" y="857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7715880" y="14288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65.3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3431880" y="1428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2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78120" y="242892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6ff33"/>
                </a:solidFill>
                <a:uFillTx/>
                <a:latin typeface="Arial"/>
              </a:rPr>
              <a:t>Step two :</a:t>
            </a:r>
            <a:r>
              <a:rPr b="0" lang="en-NZ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0" y="28576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divide each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y its Ar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0" y="142884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simply convert e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% to 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220680" y="100008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6ff33"/>
                </a:solidFill>
                <a:uFillTx/>
                <a:latin typeface="Arial"/>
              </a:rPr>
              <a:t>Step one :</a:t>
            </a:r>
            <a:r>
              <a:rPr b="0" lang="en-NZ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149400" y="371484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6ff33"/>
                </a:solidFill>
                <a:uFillTx/>
                <a:latin typeface="Arial"/>
              </a:rPr>
              <a:t>Step three :</a:t>
            </a:r>
            <a:r>
              <a:rPr b="0" lang="en-NZ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0" y="4143240"/>
            <a:ext cx="471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hat is the sma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number? Now div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each of these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is smaller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14"/>
          <p:cNvSpPr/>
          <p:nvPr/>
        </p:nvSpPr>
        <p:spPr>
          <a:xfrm>
            <a:off x="6072120" y="2643120"/>
            <a:ext cx="1071720" cy="8571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17"/>
          <p:cNvSpPr/>
          <p:nvPr/>
        </p:nvSpPr>
        <p:spPr>
          <a:xfrm>
            <a:off x="0" y="584208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Now round and ju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rite out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empirical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8"/>
          <p:cNvSpPr/>
          <p:nvPr/>
        </p:nvSpPr>
        <p:spPr>
          <a:xfrm>
            <a:off x="291960" y="55008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6ff33"/>
                </a:solidFill>
                <a:uFillTx/>
                <a:latin typeface="Arial"/>
              </a:rPr>
              <a:t>Step four :</a:t>
            </a:r>
            <a:r>
              <a:rPr b="0" lang="en-NZ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3"/>
              <p:cNvSpPr txBox="1"/>
              <p:nvPr/>
            </p:nvSpPr>
            <p:spPr>
              <a:xfrm>
                <a:off x="7169040" y="2724120"/>
                <a:ext cx="19972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7"/>
              <p:cNvSpPr txBox="1"/>
              <p:nvPr/>
            </p:nvSpPr>
            <p:spPr>
              <a:xfrm>
                <a:off x="3214800" y="2786040"/>
                <a:ext cx="1038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5072040" y="4214880"/>
                <a:ext cx="2044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8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8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5"/>
              <p:cNvSpPr txBox="1"/>
              <p:nvPr/>
            </p:nvSpPr>
            <p:spPr>
              <a:xfrm>
                <a:off x="2571840" y="4214880"/>
                <a:ext cx="2495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8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Rectangle 1"/>
          <p:cNvSpPr/>
          <p:nvPr/>
        </p:nvSpPr>
        <p:spPr>
          <a:xfrm>
            <a:off x="166320" y="2160"/>
            <a:ext cx="85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compound was found to have a % composi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f 2.0% Hydrogen, 32.7% Sulfur, 65.3% Oxygen find the empirical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traight Connector 29"/>
          <p:cNvSpPr/>
          <p:nvPr/>
        </p:nvSpPr>
        <p:spPr>
          <a:xfrm flipH="1">
            <a:off x="2642760" y="928800"/>
            <a:ext cx="1800" cy="5429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Straight Connector 30"/>
          <p:cNvSpPr/>
          <p:nvPr/>
        </p:nvSpPr>
        <p:spPr>
          <a:xfrm flipH="1">
            <a:off x="5143680" y="857160"/>
            <a:ext cx="1440" cy="55008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5357880" y="857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32"/>
          <p:cNvSpPr/>
          <p:nvPr/>
        </p:nvSpPr>
        <p:spPr>
          <a:xfrm>
            <a:off x="5432760" y="15001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32.7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10"/>
              <p:cNvSpPr txBox="1"/>
              <p:nvPr/>
            </p:nvSpPr>
            <p:spPr>
              <a:xfrm>
                <a:off x="5072040" y="2786040"/>
                <a:ext cx="20606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18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11"/>
              <p:cNvSpPr txBox="1"/>
              <p:nvPr/>
            </p:nvSpPr>
            <p:spPr>
              <a:xfrm>
                <a:off x="7618320" y="4286160"/>
                <a:ext cx="1197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87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3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2" name="TextBox 35"/>
          <p:cNvSpPr/>
          <p:nvPr/>
        </p:nvSpPr>
        <p:spPr>
          <a:xfrm>
            <a:off x="7572240" y="5786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37"/>
          <p:cNvSpPr/>
          <p:nvPr/>
        </p:nvSpPr>
        <p:spPr>
          <a:xfrm>
            <a:off x="5429160" y="5786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Box 38"/>
          <p:cNvSpPr/>
          <p:nvPr/>
        </p:nvSpPr>
        <p:spPr>
          <a:xfrm>
            <a:off x="3071880" y="5786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traight Connector 39"/>
          <p:cNvSpPr/>
          <p:nvPr/>
        </p:nvSpPr>
        <p:spPr>
          <a:xfrm flipH="1">
            <a:off x="7214760" y="785880"/>
            <a:ext cx="1800" cy="55720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48"/>
          <p:cNvSpPr/>
          <p:nvPr/>
        </p:nvSpPr>
        <p:spPr>
          <a:xfrm>
            <a:off x="5929200" y="6396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3582360" y="63658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51"/>
          <p:cNvSpPr/>
          <p:nvPr/>
        </p:nvSpPr>
        <p:spPr>
          <a:xfrm>
            <a:off x="8010360" y="639612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O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19080" y="149760"/>
            <a:ext cx="898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 sample with composition 40% C,  6.7% H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53.3% O had a molar mass 60 g mol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in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mpirical formula and also the molecular 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2"/>
          <p:cNvSpPr/>
          <p:nvPr/>
        </p:nvSpPr>
        <p:spPr>
          <a:xfrm>
            <a:off x="7858080" y="857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3"/>
          <p:cNvSpPr/>
          <p:nvPr/>
        </p:nvSpPr>
        <p:spPr>
          <a:xfrm>
            <a:off x="3071880" y="857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718760" y="14288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53.3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3432240" y="1428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40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78120" y="242892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6ff33"/>
                </a:solidFill>
                <a:uFillTx/>
                <a:latin typeface="Arial"/>
              </a:rPr>
              <a:t>Step two :</a:t>
            </a:r>
            <a:r>
              <a:rPr b="0" lang="en-NZ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0" y="28576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divide each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y its Ar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0" y="142884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simply convert e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% to 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20680" y="100008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6ff33"/>
                </a:solidFill>
                <a:uFillTx/>
                <a:latin typeface="Arial"/>
              </a:rPr>
              <a:t>Step one :</a:t>
            </a:r>
            <a:r>
              <a:rPr b="0" lang="en-NZ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149400" y="371484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6ff33"/>
                </a:solidFill>
                <a:uFillTx/>
                <a:latin typeface="Arial"/>
              </a:rPr>
              <a:t>Step three :</a:t>
            </a:r>
            <a:r>
              <a:rPr b="0" lang="en-NZ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0" y="4143240"/>
            <a:ext cx="471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hat is the sma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number? Now div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each of these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is smaller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17"/>
          <p:cNvSpPr/>
          <p:nvPr/>
        </p:nvSpPr>
        <p:spPr>
          <a:xfrm>
            <a:off x="0" y="584208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Now round and ju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rite out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empirical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8"/>
          <p:cNvSpPr/>
          <p:nvPr/>
        </p:nvSpPr>
        <p:spPr>
          <a:xfrm>
            <a:off x="291960" y="55008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6ff33"/>
                </a:solidFill>
                <a:uFillTx/>
                <a:latin typeface="Arial"/>
              </a:rPr>
              <a:t>Step four :</a:t>
            </a:r>
            <a:r>
              <a:rPr b="0" lang="en-NZ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Straight Connector 29"/>
          <p:cNvSpPr/>
          <p:nvPr/>
        </p:nvSpPr>
        <p:spPr>
          <a:xfrm flipH="1">
            <a:off x="2571840" y="928800"/>
            <a:ext cx="1440" cy="5429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Straight Connector 30"/>
          <p:cNvSpPr/>
          <p:nvPr/>
        </p:nvSpPr>
        <p:spPr>
          <a:xfrm flipH="1">
            <a:off x="5072040" y="857160"/>
            <a:ext cx="1440" cy="55008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Box 3"/>
          <p:cNvSpPr/>
          <p:nvPr/>
        </p:nvSpPr>
        <p:spPr>
          <a:xfrm>
            <a:off x="5357880" y="857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32"/>
          <p:cNvSpPr/>
          <p:nvPr/>
        </p:nvSpPr>
        <p:spPr>
          <a:xfrm>
            <a:off x="5646960" y="1428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6.7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35"/>
          <p:cNvSpPr/>
          <p:nvPr/>
        </p:nvSpPr>
        <p:spPr>
          <a:xfrm>
            <a:off x="7572240" y="5786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Box 37"/>
          <p:cNvSpPr/>
          <p:nvPr/>
        </p:nvSpPr>
        <p:spPr>
          <a:xfrm>
            <a:off x="5429160" y="5786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38"/>
          <p:cNvSpPr/>
          <p:nvPr/>
        </p:nvSpPr>
        <p:spPr>
          <a:xfrm>
            <a:off x="3071880" y="5786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Straight Connector 39"/>
          <p:cNvSpPr/>
          <p:nvPr/>
        </p:nvSpPr>
        <p:spPr>
          <a:xfrm flipH="1">
            <a:off x="7214760" y="785880"/>
            <a:ext cx="1800" cy="55720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48"/>
          <p:cNvSpPr/>
          <p:nvPr/>
        </p:nvSpPr>
        <p:spPr>
          <a:xfrm>
            <a:off x="5929200" y="6396120"/>
            <a:ext cx="7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49"/>
          <p:cNvSpPr/>
          <p:nvPr/>
        </p:nvSpPr>
        <p:spPr>
          <a:xfrm>
            <a:off x="3575520" y="6365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51"/>
          <p:cNvSpPr/>
          <p:nvPr/>
        </p:nvSpPr>
        <p:spPr>
          <a:xfrm>
            <a:off x="8003520" y="6396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1"/>
              <p:cNvSpPr txBox="1"/>
              <p:nvPr/>
            </p:nvSpPr>
            <p:spPr>
              <a:xfrm>
                <a:off x="2770200" y="2786040"/>
                <a:ext cx="19270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2"/>
              <p:cNvSpPr txBox="1"/>
              <p:nvPr/>
            </p:nvSpPr>
            <p:spPr>
              <a:xfrm>
                <a:off x="5446800" y="2795760"/>
                <a:ext cx="1312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7124760" y="2786040"/>
                <a:ext cx="20192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5"/>
              <p:cNvSpPr txBox="1"/>
              <p:nvPr/>
            </p:nvSpPr>
            <p:spPr>
              <a:xfrm>
                <a:off x="2602080" y="4214880"/>
                <a:ext cx="2433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4"/>
              <p:cNvSpPr txBox="1"/>
              <p:nvPr/>
            </p:nvSpPr>
            <p:spPr>
              <a:xfrm>
                <a:off x="5038560" y="4214880"/>
                <a:ext cx="21765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6"/>
              <p:cNvSpPr txBox="1"/>
              <p:nvPr/>
            </p:nvSpPr>
            <p:spPr>
              <a:xfrm>
                <a:off x="7358040" y="4214880"/>
                <a:ext cx="1649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Rectangle 1"/>
          <p:cNvSpPr/>
          <p:nvPr/>
        </p:nvSpPr>
        <p:spPr>
          <a:xfrm>
            <a:off x="0" y="2160"/>
            <a:ext cx="928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sample with composition 40% C,  6.7% H and 53.3% O had a molar mass 60 g mol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find the Empirical formula and also the molecular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1"/>
          <p:cNvSpPr/>
          <p:nvPr/>
        </p:nvSpPr>
        <p:spPr>
          <a:xfrm>
            <a:off x="142920" y="428760"/>
            <a:ext cx="900108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Step five: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use the empirical formula you just found ie 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and follow the method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Step six :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ivide your given molar mass (60 gmo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 by the molar mass of 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(30 gmo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4"/>
          <p:cNvSpPr/>
          <p:nvPr/>
        </p:nvSpPr>
        <p:spPr>
          <a:xfrm>
            <a:off x="214200" y="3714840"/>
            <a:ext cx="7929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Step seven: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ow multiply your empirical formula by 2 to get the molecular formula - 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2 x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= 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C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4"/>
              <p:cNvSpPr txBox="1"/>
              <p:nvPr/>
            </p:nvSpPr>
            <p:spPr>
              <a:xfrm>
                <a:off x="928800" y="2571840"/>
                <a:ext cx="39481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iven molar 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empirical formula molar mass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5221440" y="2487600"/>
                <a:ext cx="23130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30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ater of Crystallisation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hydrated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alts have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 molecules in their structure eg Cu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5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 (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hydrated means with water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 means that each particle of Cu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is surrounded by 5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se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 molecules are called the water of crystall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water in the structure can be removed by heating to form the anhydrous (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without water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) salt ie Cu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Finding the Empirical Formula for a Hydrated salt by Gravimetric Analysi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o find the mass of H</a:t>
            </a:r>
            <a:r>
              <a:rPr b="0" lang="en-NZ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O in a hydrated (with water) sa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irstly find the mass of the hydrated (with water) sa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at strongly for 10 minutes cool then reweig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n heat again and reweigh to check the salt is at constant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684360" y="1701720"/>
            <a:ext cx="1511280" cy="18716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116000" y="220500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260360" y="191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187280" y="29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 flipH="1">
            <a:off x="1763280" y="3068640"/>
            <a:ext cx="1295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059280" y="2781360"/>
            <a:ext cx="56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drogen has a relative mass of 1 compared to carb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84360" y="54936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ve atomic Mass (Ar)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285840" y="45720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omic Sans MS"/>
              </a:rPr>
              <a:t>We say the relative atomic mass (Ar) of hydrogen is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n subtract the mass of the anhydrous(dry) salt from the hydrated(wet) sa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is will give you the water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n use your anhydrous salt mass and water mass to workout the empirical formula of the hydrated salt using g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3929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428760" y="285840"/>
            <a:ext cx="82152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nd the empirical formula for a hydrated salt Na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X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ss of hydrated Na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salt = 2.58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ss of salt after heating to constant weight = 0.95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refore: 2.58g – 0.95g = 1.63g (mass of  wa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"/>
          <p:cNvSpPr/>
          <p:nvPr/>
        </p:nvSpPr>
        <p:spPr>
          <a:xfrm>
            <a:off x="142920" y="0"/>
            <a:ext cx="8358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alculation for finding the empirical formula for a hydrated salt Na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X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3658320" y="135720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106gmol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6729840" y="135720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18gmol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78480" y="18572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6ff33"/>
                </a:solidFill>
                <a:uFillTx/>
                <a:latin typeface="Arial"/>
              </a:rPr>
              <a:t>Step two :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Given masses find moles of 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142920" y="1428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nd the Mr ‘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222120" y="1000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6ff33"/>
                </a:solidFill>
                <a:uFillTx/>
                <a:latin typeface="Arial"/>
              </a:rPr>
              <a:t>Step one :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3"/>
              <p:cNvSpPr txBox="1"/>
              <p:nvPr/>
            </p:nvSpPr>
            <p:spPr>
              <a:xfrm>
                <a:off x="6500880" y="2143080"/>
                <a:ext cx="26431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055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12"/>
              <p:cNvSpPr txBox="1"/>
              <p:nvPr/>
            </p:nvSpPr>
            <p:spPr>
              <a:xfrm>
                <a:off x="2565360" y="2273400"/>
                <a:ext cx="33735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96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Rectangle 12"/>
          <p:cNvSpPr/>
          <p:nvPr/>
        </p:nvSpPr>
        <p:spPr>
          <a:xfrm>
            <a:off x="151200" y="314316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6ff33"/>
                </a:solidFill>
                <a:uFillTx/>
                <a:latin typeface="Arial"/>
              </a:rPr>
              <a:t>Step three :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13"/>
          <p:cNvSpPr/>
          <p:nvPr/>
        </p:nvSpPr>
        <p:spPr>
          <a:xfrm>
            <a:off x="0" y="3571920"/>
            <a:ext cx="350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at is the smaller numb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ow divide each of thes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is smaller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14"/>
          <p:cNvSpPr/>
          <p:nvPr/>
        </p:nvSpPr>
        <p:spPr>
          <a:xfrm>
            <a:off x="3951360" y="2357280"/>
            <a:ext cx="1857240" cy="85752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4"/>
              <p:cNvSpPr txBox="1"/>
              <p:nvPr/>
            </p:nvSpPr>
            <p:spPr>
              <a:xfrm>
                <a:off x="3071880" y="3714840"/>
                <a:ext cx="26146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962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9622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5"/>
              <p:cNvSpPr txBox="1"/>
              <p:nvPr/>
            </p:nvSpPr>
            <p:spPr>
              <a:xfrm>
                <a:off x="6310440" y="3786120"/>
                <a:ext cx="28335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055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9622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TextBox 17"/>
          <p:cNvSpPr/>
          <p:nvPr/>
        </p:nvSpPr>
        <p:spPr>
          <a:xfrm>
            <a:off x="0" y="565776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ke small adjust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o give whol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o give empirical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18"/>
          <p:cNvSpPr/>
          <p:nvPr/>
        </p:nvSpPr>
        <p:spPr>
          <a:xfrm>
            <a:off x="292320" y="535788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6ff33"/>
                </a:solidFill>
                <a:uFillTx/>
                <a:latin typeface="Arial"/>
              </a:rPr>
              <a:t>Step four :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25"/>
          <p:cNvSpPr/>
          <p:nvPr/>
        </p:nvSpPr>
        <p:spPr>
          <a:xfrm>
            <a:off x="3802320" y="857160"/>
            <a:ext cx="12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27"/>
          <p:cNvSpPr/>
          <p:nvPr/>
        </p:nvSpPr>
        <p:spPr>
          <a:xfrm>
            <a:off x="6937920" y="85716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4024080" y="5643720"/>
            <a:ext cx="171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 x Na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27"/>
          <p:cNvSpPr/>
          <p:nvPr/>
        </p:nvSpPr>
        <p:spPr>
          <a:xfrm>
            <a:off x="6800760" y="5643720"/>
            <a:ext cx="107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0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6"/>
          <p:cNvSpPr/>
          <p:nvPr/>
        </p:nvSpPr>
        <p:spPr>
          <a:xfrm>
            <a:off x="5143680" y="6149880"/>
            <a:ext cx="2187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10H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Concentr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1194120"/>
            <a:ext cx="88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icles per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n be in grams per litre but chemists usually express concentration in moles per li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This are related by the formul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n =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V = volume in lit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 = concentration in mol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4"/>
              <p:cNvSpPr txBox="1"/>
              <p:nvPr/>
            </p:nvSpPr>
            <p:spPr>
              <a:xfrm>
                <a:off x="4067280" y="4005360"/>
                <a:ext cx="129528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1"/>
          <p:cNvSpPr/>
          <p:nvPr/>
        </p:nvSpPr>
        <p:spPr>
          <a:xfrm>
            <a:off x="142920" y="357120"/>
            <a:ext cx="8715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Write the formula fo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1. Moles using mass and Molar m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2. Concentration using Volume and Mo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6"/>
              <p:cNvSpPr txBox="1"/>
              <p:nvPr/>
            </p:nvSpPr>
            <p:spPr>
              <a:xfrm>
                <a:off x="2214720" y="2286000"/>
                <a:ext cx="288108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2"/>
              <p:cNvSpPr txBox="1"/>
              <p:nvPr/>
            </p:nvSpPr>
            <p:spPr>
              <a:xfrm>
                <a:off x="3289320" y="4713120"/>
                <a:ext cx="115884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00"/>
                </a:solidFill>
                <a:latin typeface="Arial"/>
              </a:rPr>
              <a:t>Concentration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3760" y="1374480"/>
            <a:ext cx="862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5 grams of NaCl is dissolved in 1 litre of water, what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oncentration of the solution in moles per li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M NaCl = 58.5 gmol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nd moles of Na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ivide moles by volume in li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4"/>
              <p:cNvSpPr txBox="1"/>
              <p:nvPr/>
            </p:nvSpPr>
            <p:spPr>
              <a:xfrm>
                <a:off x="1643040" y="3429000"/>
                <a:ext cx="50007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64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7"/>
              <p:cNvSpPr txBox="1"/>
              <p:nvPr/>
            </p:nvSpPr>
            <p:spPr>
              <a:xfrm>
                <a:off x="1285920" y="5429160"/>
                <a:ext cx="5786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64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litr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00"/>
                </a:solidFill>
                <a:latin typeface="Arial"/>
              </a:rPr>
              <a:t>Concentration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165240" y="1374480"/>
            <a:ext cx="8987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0 grams of NaOH is dissolved in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500mls of wat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what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oncentration of the solution in moles per li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M NaOH = 40gmol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nd moles of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ivide moles by volume in li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1627200" y="3398760"/>
                <a:ext cx="50324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7"/>
              <p:cNvSpPr txBox="1"/>
              <p:nvPr/>
            </p:nvSpPr>
            <p:spPr>
              <a:xfrm>
                <a:off x="1887480" y="5415120"/>
                <a:ext cx="458172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mo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litr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4"/>
          <p:cNvSpPr/>
          <p:nvPr/>
        </p:nvSpPr>
        <p:spPr>
          <a:xfrm>
            <a:off x="0" y="420480"/>
            <a:ext cx="874872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solution 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5mls of 0.23 molL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AgN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is mixed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solution 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82 mls of O.15molL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f AgN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hat is the final concentration of the solution when they are mix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nd total moles by adding moles of A to moles of B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ivide total moles by total volume in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li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4"/>
              <p:cNvSpPr txBox="1"/>
              <p:nvPr/>
            </p:nvSpPr>
            <p:spPr>
              <a:xfrm>
                <a:off x="142920" y="3000240"/>
                <a:ext cx="266868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mole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 x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mol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7"/>
              <p:cNvSpPr txBox="1"/>
              <p:nvPr/>
            </p:nvSpPr>
            <p:spPr>
              <a:xfrm>
                <a:off x="173160" y="5908680"/>
                <a:ext cx="84708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05mo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7litre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869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9 molL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6"/>
              <p:cNvSpPr txBox="1"/>
              <p:nvPr/>
            </p:nvSpPr>
            <p:spPr>
              <a:xfrm>
                <a:off x="3214800" y="3071880"/>
                <a:ext cx="252072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mole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 x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 mol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2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7"/>
              <p:cNvSpPr txBox="1"/>
              <p:nvPr/>
            </p:nvSpPr>
            <p:spPr>
              <a:xfrm>
                <a:off x="5892840" y="3071880"/>
                <a:ext cx="32511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rPr>
                            <m:lit/>
                            <m:nor/>
                          </m:rPr>
                          <m:t xml:space="preserve">  mo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les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oles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s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23moles 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05mo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4" name="Straight Connector 8"/>
          <p:cNvSpPr/>
          <p:nvPr/>
        </p:nvSpPr>
        <p:spPr>
          <a:xfrm flipH="1">
            <a:off x="2927520" y="3071880"/>
            <a:ext cx="1440" cy="2144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Straight Connector 9"/>
          <p:cNvSpPr/>
          <p:nvPr/>
        </p:nvSpPr>
        <p:spPr>
          <a:xfrm flipH="1">
            <a:off x="5785920" y="3071880"/>
            <a:ext cx="1800" cy="21430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684360" y="1701720"/>
            <a:ext cx="1511280" cy="1871640"/>
          </a:xfrm>
          <a:prstGeom prst="rect">
            <a:avLst/>
          </a:prstGeom>
          <a:solidFill>
            <a:srgbClr val="99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16000" y="220500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260360" y="191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116000" y="292428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1763280" y="3068640"/>
            <a:ext cx="1295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059280" y="2781360"/>
            <a:ext cx="56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xygen has a relative mass of 16 compared to carb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684360" y="54936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ve atomic Mass (Ar)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50920" y="4076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omic Sans MS"/>
              </a:rPr>
              <a:t>We say the relative atomic mass (Ar) of oxygen is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324000" y="515772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All of the relative atomic masses for all the atoms are found on the periodic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500040" y="1571760"/>
          <a:ext cx="8229600" cy="4330440"/>
        </p:xfrm>
        <a:graphic>
          <a:graphicData uri="http://schemas.openxmlformats.org/drawingml/2006/table">
            <a:tbl>
              <a:tblPr/>
              <a:tblGrid>
                <a:gridCol w="1800360"/>
                <a:gridCol w="3986280"/>
                <a:gridCol w="2442960"/>
              </a:tblGrid>
              <a:tr h="9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Reaction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Text Box 3"/>
          <p:cNvSpPr/>
          <p:nvPr/>
        </p:nvSpPr>
        <p:spPr>
          <a:xfrm>
            <a:off x="395280" y="1052640"/>
            <a:ext cx="777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+       2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                          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+     2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4"/>
          <p:cNvSpPr/>
          <p:nvPr/>
        </p:nvSpPr>
        <p:spPr>
          <a:xfrm>
            <a:off x="3452760" y="128736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37"/>
          <p:cNvSpPr/>
          <p:nvPr/>
        </p:nvSpPr>
        <p:spPr>
          <a:xfrm>
            <a:off x="6929280" y="49291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77"/>
              <p:cNvSpPr txBox="1"/>
              <p:nvPr/>
            </p:nvSpPr>
            <p:spPr>
              <a:xfrm>
                <a:off x="785880" y="4000680"/>
                <a:ext cx="1100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Rectangle 78"/>
          <p:cNvSpPr/>
          <p:nvPr/>
        </p:nvSpPr>
        <p:spPr>
          <a:xfrm>
            <a:off x="903960" y="328608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80"/>
          <p:cNvSpPr/>
          <p:nvPr/>
        </p:nvSpPr>
        <p:spPr>
          <a:xfrm>
            <a:off x="3143160" y="4071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81"/>
          <p:cNvSpPr/>
          <p:nvPr/>
        </p:nvSpPr>
        <p:spPr>
          <a:xfrm>
            <a:off x="3071160" y="32860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500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82"/>
              <p:cNvSpPr txBox="1"/>
              <p:nvPr/>
            </p:nvSpPr>
            <p:spPr>
              <a:xfrm>
                <a:off x="2571840" y="4000680"/>
                <a:ext cx="166212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5" name="Text Box 83"/>
          <p:cNvSpPr/>
          <p:nvPr/>
        </p:nvSpPr>
        <p:spPr>
          <a:xfrm>
            <a:off x="4143240" y="42148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= 31.25 m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84"/>
          <p:cNvSpPr/>
          <p:nvPr/>
        </p:nvSpPr>
        <p:spPr>
          <a:xfrm>
            <a:off x="3255840" y="25718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16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87"/>
          <p:cNvSpPr/>
          <p:nvPr/>
        </p:nvSpPr>
        <p:spPr>
          <a:xfrm>
            <a:off x="1082520" y="257184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89"/>
          <p:cNvSpPr/>
          <p:nvPr/>
        </p:nvSpPr>
        <p:spPr>
          <a:xfrm>
            <a:off x="6684840" y="25718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18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36"/>
          <p:cNvSpPr/>
          <p:nvPr/>
        </p:nvSpPr>
        <p:spPr>
          <a:xfrm>
            <a:off x="3786120" y="49291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Box 43"/>
          <p:cNvSpPr/>
          <p:nvPr/>
        </p:nvSpPr>
        <p:spPr>
          <a:xfrm>
            <a:off x="928800" y="5357880"/>
            <a:ext cx="8072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refore 2  x moles of 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=  moles of </a:t>
            </a: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H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Comic Sans MS"/>
              </a:rPr>
              <a:t>2</a:t>
            </a: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Box 44"/>
          <p:cNvSpPr/>
          <p:nvPr/>
        </p:nvSpPr>
        <p:spPr>
          <a:xfrm>
            <a:off x="393840" y="5877000"/>
            <a:ext cx="875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refore 2  x 31.25 moles     =   62.5 moles of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49"/>
          <p:cNvSpPr/>
          <p:nvPr/>
        </p:nvSpPr>
        <p:spPr>
          <a:xfrm>
            <a:off x="7110000" y="1851120"/>
            <a:ext cx="7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H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Comic Sans MS"/>
              </a:rPr>
              <a:t>2</a:t>
            </a: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51"/>
          <p:cNvSpPr/>
          <p:nvPr/>
        </p:nvSpPr>
        <p:spPr>
          <a:xfrm>
            <a:off x="3649680" y="1851120"/>
            <a:ext cx="70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CH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22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How many grams of water vapour H</a:t>
            </a:r>
            <a:r>
              <a:rPr b="0" i="1" lang="en-AU" sz="2400" spc="-1" strike="noStrike" baseline="-30000">
                <a:solidFill>
                  <a:srgbClr val="ffffff"/>
                </a:solidFill>
                <a:latin typeface="New York"/>
                <a:ea typeface="Times New Roman"/>
              </a:rPr>
              <a:t>2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O(g) will be produced in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complete combustion of 500g methane, CH</a:t>
            </a:r>
            <a:r>
              <a:rPr b="0" i="1" lang="en-AU" sz="2400" spc="-1" strike="noStrike" baseline="-30000">
                <a:solidFill>
                  <a:srgbClr val="ffffff"/>
                </a:solidFill>
                <a:latin typeface="New York"/>
                <a:ea typeface="Times New Roman"/>
              </a:rPr>
              <a:t>4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(g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54"/>
          <p:cNvSpPr/>
          <p:nvPr/>
        </p:nvSpPr>
        <p:spPr>
          <a:xfrm>
            <a:off x="6215040" y="2928960"/>
            <a:ext cx="4248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62.5x18 =1,125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= 1.13kg H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1"/>
          <p:cNvSpPr/>
          <p:nvPr/>
        </p:nvSpPr>
        <p:spPr>
          <a:xfrm>
            <a:off x="642960" y="571680"/>
            <a:ext cx="821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omework for Friday -  finish off all worksheet pages in booklet  except worksheet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est preparation for Mon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ead Unit 11 page 41 in your pathfinder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omplete all questions on page 42 and 43 before Mon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ee me before Monday if you are having any trou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"/>
          <p:cNvSpPr/>
          <p:nvPr/>
        </p:nvSpPr>
        <p:spPr>
          <a:xfrm>
            <a:off x="24120" y="264960"/>
            <a:ext cx="89287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How many grams of water vapour H</a:t>
            </a:r>
            <a:r>
              <a:rPr b="0" i="1" lang="en-AU" sz="2400" spc="-1" strike="noStrike" baseline="-30000">
                <a:solidFill>
                  <a:srgbClr val="ffffff"/>
                </a:solidFill>
                <a:latin typeface="New York"/>
                <a:ea typeface="Times New Roman"/>
              </a:rPr>
              <a:t>2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O(g) will be produced in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complete combustion of 500g methane, CH</a:t>
            </a:r>
            <a:r>
              <a:rPr b="0" i="1" lang="en-AU" sz="2400" spc="-1" strike="noStrike" baseline="-30000">
                <a:solidFill>
                  <a:srgbClr val="ffffff"/>
                </a:solidFill>
                <a:latin typeface="New York"/>
                <a:ea typeface="Times New Roman"/>
              </a:rPr>
              <a:t>4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(g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	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Equation: CH</a:t>
            </a:r>
            <a:r>
              <a:rPr b="0" i="1" lang="en-AU" sz="2400" spc="-1" strike="noStrike" baseline="-30000">
                <a:solidFill>
                  <a:srgbClr val="ffffff"/>
                </a:solidFill>
                <a:latin typeface="New York"/>
                <a:ea typeface="Times New Roman"/>
              </a:rPr>
              <a:t>4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(g)   +   2O</a:t>
            </a:r>
            <a:r>
              <a:rPr b="0" i="1" lang="en-AU" sz="2400" spc="-1" strike="noStrike" baseline="-30000">
                <a:solidFill>
                  <a:srgbClr val="ffffff"/>
                </a:solidFill>
                <a:latin typeface="New York"/>
                <a:ea typeface="Times New Roman"/>
              </a:rPr>
              <a:t>2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(g)   </a:t>
            </a:r>
            <a:r>
              <a:rPr b="0" lang="en-A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 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CO</a:t>
            </a:r>
            <a:r>
              <a:rPr b="0" i="1" lang="en-AU" sz="2400" spc="-1" strike="noStrike" baseline="-30000">
                <a:solidFill>
                  <a:srgbClr val="ffffff"/>
                </a:solidFill>
                <a:latin typeface="New York"/>
                <a:ea typeface="Times New Roman"/>
              </a:rPr>
              <a:t>2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(g)   +   2H</a:t>
            </a:r>
            <a:r>
              <a:rPr b="0" i="1" lang="en-AU" sz="2400" spc="-1" strike="noStrike" baseline="-30000">
                <a:solidFill>
                  <a:srgbClr val="ffffff"/>
                </a:solidFill>
                <a:latin typeface="New York"/>
                <a:ea typeface="Times New Roman"/>
              </a:rPr>
              <a:t>2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O(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0-Periodic%20tabl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250920" y="189000"/>
            <a:ext cx="82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357120" y="1214280"/>
            <a:ext cx="8280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Through numerous experiments Avogadro found that one mole  (ie 6.02x10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Comic Sans MS"/>
              </a:rPr>
              <a:t>23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 atoms ,yes that is a very, very large numb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of any element equalled the relative atomic mass (Ar) in grams of each sub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This mea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6.02x10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Comic Sans MS"/>
              </a:rPr>
              <a:t>23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 oxygen (O) atoms = 16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6.02x10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Comic Sans MS"/>
              </a:rPr>
              <a:t>23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 carbon (C) atoms = 12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6.02x10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Comic Sans MS"/>
              </a:rPr>
              <a:t>23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 hydrogen (H) atoms = 1 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6.02x10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Comic Sans MS"/>
              </a:rPr>
              <a:t>23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 sulfur (S) atoms = 32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500040" y="214200"/>
            <a:ext cx="79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Avogadro's Numb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0" y="260280"/>
            <a:ext cx="8928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Comic Sans MS"/>
              </a:rPr>
              <a:t>Atomic Mass (Ar) and Molecular Mass (M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We can find the molecular mass (Mr) of a compound by adding the atomic mass (Ar) numbers of the atoms in a comp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Be aware that the terms atomic mass and molecular mass are also known as </a:t>
            </a:r>
            <a:r>
              <a:rPr b="0" lang="en-NZ" sz="3200" spc="-1" strike="noStrike">
                <a:solidFill>
                  <a:srgbClr val="00ffff"/>
                </a:solidFill>
                <a:latin typeface="Comic Sans MS"/>
              </a:rPr>
              <a:t>molar m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Ar and Mr are very similia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r = the relative atomic mass and is used for single atoms eg Ca, N, O etc in gmo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Eg The Ar of  Ca = 40 gmol 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r = the relative molecular mass of a substance and is the sum of the Ar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Eg 1 mole of H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= 1 + 1 = 2 gmol 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g What is the Mr of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?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use your PT to find ou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(2 x H = 2 )  +   (1 x O = 16) = 18gmol 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at is the Mr of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(2 x H = 2)  +  (1 x S = 32)  +  (4 x O = 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2        +                32    +              64  =  98 gmol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2:39:46Z</dcterms:created>
  <dc:creator>Ministry of Education</dc:creator>
  <dc:description/>
  <dc:language>en-US</dc:language>
  <cp:lastModifiedBy>Ministry of Education</cp:lastModifiedBy>
  <dcterms:modified xsi:type="dcterms:W3CDTF">2010-04-29T03:28:03Z</dcterms:modified>
  <cp:revision>10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